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A88-5DF9-4F1D-B15B-99594ABF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4AD-69FC-461E-BEE0-AAE3A538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6B8-8D21-4530-95B4-3FE5E0BF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6A3-173A-4B54-BB06-6E549974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2E-0E41-44D1-BC35-BD3B950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5DC-6FD6-43D5-B341-571781B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018-9CB9-4D80-8CAD-B867E68C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5E8-0C97-4AEC-B9C9-5D5A62E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95A-A15D-44A8-8984-6D642783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6A2-706E-4B90-9DE1-897D8B8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6E1-D8DB-4302-9BC1-D7DE93F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FE3-0BA6-497E-8FB5-DC8949B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2BE-FE5F-4FC8-80FB-DE0A2118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1040" y="31608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rification of COAMPS TC structure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1001880"/>
            <a:ext cx="7999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Go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velop framework for assessing the quality of COAMPS TC structure forecas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omplement the traditional assessment of forecast intensity and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urpos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itially, to qualitatively diagnose model biases/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Method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aphical comparison of 2D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5520" y="2722680"/>
            <a:ext cx="57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COAMPS surface wind field vs. surface wind field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27720" y="3087720"/>
            <a:ext cx="407880" cy="2318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7480" y="3381480"/>
            <a:ext cx="53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HRD H*Wind surface wind analysis (aircraft, surface, satell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2160" y="3679920"/>
            <a:ext cx="43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CIRA multiplatform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1640" y="4184640"/>
            <a:ext cx="71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COAMPS reflectivity field vs. 85GHz brightness temperature observatio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verification of the spatial distribution of deep 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1800" y="6551640"/>
            <a:ext cx="594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Jon Moskaitis  -  Naval Research Laboratory  -  Modeling Group Meeting  -  11/19/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1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FF9-63C9-4B97-B717-089366B1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59160" cy="465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60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30406" t="30359" r="4058" b="7275"/>
          <a:stretch/>
        </p:blipFill>
        <p:spPr>
          <a:xfrm>
            <a:off x="523800" y="1258920"/>
            <a:ext cx="3694320" cy="4043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3480" y="27590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82800" y="2746440"/>
            <a:ext cx="847800" cy="92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BDEB-46B6-4C6E-9CC8-67B366A0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68600" cy="4647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385" t="13301" r="0" b="26209"/>
          <a:stretch/>
        </p:blipFill>
        <p:spPr>
          <a:xfrm>
            <a:off x="542880" y="1189080"/>
            <a:ext cx="3692520" cy="4010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7720" y="5248440"/>
            <a:ext cx="29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D H*Wind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:3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3892-506A-425C-BACC-D1246424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60 h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14600" cy="4654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20546" t="18949" r="18756" b="18949"/>
          <a:stretch/>
        </p:blipFill>
        <p:spPr>
          <a:xfrm>
            <a:off x="592200" y="1255680"/>
            <a:ext cx="3606840" cy="4116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5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6BF7-F0E6-4BDF-A86E-E0A9BBCC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60 h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60800" y="2984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720" y="1065240"/>
            <a:ext cx="69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1) Systematize graphical comparisons of forecast vs. obs/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26880" y="1649520"/>
            <a:ext cx="62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Download surface wind field analysis data and re-plot in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as COAMPS forec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640" y="2286000"/>
            <a:ext cx="68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Use COAMPS forecast fields to produce 85GHz brightness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, for comparison with satellite observ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1480" y="2911320"/>
            <a:ext cx="55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Put side-by-side comparisons on COAMPS-TC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8040" y="34909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2) Develop quantitative TC structure verific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D77-FF8D-4D59-A6D6-B9EBEF25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4413" r="0" b="0"/>
          <a:stretch/>
        </p:blipFill>
        <p:spPr>
          <a:xfrm>
            <a:off x="198360" y="1197000"/>
            <a:ext cx="4179960" cy="387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94" r="0" b="0"/>
          <a:stretch/>
        </p:blipFill>
        <p:spPr>
          <a:xfrm>
            <a:off x="4459320" y="1189080"/>
            <a:ext cx="4581360" cy="409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97280" y="903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10160" y="871560"/>
            <a:ext cx="938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9720" y="53848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AMPS forecast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best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7560" y="6021360"/>
            <a:ext cx="74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TC forecast graphics available at http://www.nrlmry.navy.mil/coamps-web/web/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3175-9024-41FD-806C-1FDD234D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68520" cy="465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11715" r="0" b="8606"/>
          <a:stretch/>
        </p:blipFill>
        <p:spPr>
          <a:xfrm>
            <a:off x="328680" y="1336680"/>
            <a:ext cx="4022640" cy="423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66640" y="1318680"/>
            <a:ext cx="377352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720" y="56181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41B-D895-4B9C-BDCE-B7F70A62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68520" cy="465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11715" r="0" b="8606"/>
          <a:stretch/>
        </p:blipFill>
        <p:spPr>
          <a:xfrm>
            <a:off x="328680" y="1336680"/>
            <a:ext cx="4022640" cy="423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566640" y="1318680"/>
            <a:ext cx="377352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45720" y="56181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92880" y="3059280"/>
            <a:ext cx="50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5000" y="2954160"/>
            <a:ext cx="50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400-677B-4608-814C-4903CCF7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05160" cy="465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19823" t="17178" r="16478" b="19719"/>
          <a:stretch/>
        </p:blipFill>
        <p:spPr>
          <a:xfrm>
            <a:off x="652320" y="1270080"/>
            <a:ext cx="3502080" cy="409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1232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6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B0EA-C2AF-498A-B77C-F3CC2B5E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05160" cy="465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9823" t="17178" r="16478" b="19719"/>
          <a:stretch/>
        </p:blipFill>
        <p:spPr>
          <a:xfrm>
            <a:off x="652320" y="1270080"/>
            <a:ext cx="3502080" cy="409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1232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6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280" y="3017880"/>
            <a:ext cx="631800" cy="68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9080" y="3011400"/>
            <a:ext cx="631800" cy="68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2BA4-CE6B-4F5B-919C-08E93912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78240" cy="465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36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9210" r="0" b="8770"/>
          <a:stretch/>
        </p:blipFill>
        <p:spPr>
          <a:xfrm>
            <a:off x="347760" y="1230480"/>
            <a:ext cx="4022640" cy="4438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590400" y="1224000"/>
            <a:ext cx="37735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9480" y="57135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5640" y="288432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3320" y="2862360"/>
            <a:ext cx="614160" cy="75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E30B-4500-488B-842D-867BEF44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22440" cy="465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36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7565" t="17693" r="18675" b="19181"/>
          <a:stretch/>
        </p:blipFill>
        <p:spPr>
          <a:xfrm>
            <a:off x="687240" y="1246320"/>
            <a:ext cx="3497400" cy="4092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288432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290340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6717-268B-4D00-929E-C48873A57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24320" cy="46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60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10239" r="0" b="8770"/>
          <a:stretch/>
        </p:blipFill>
        <p:spPr>
          <a:xfrm>
            <a:off x="320760" y="1235160"/>
            <a:ext cx="4022640" cy="43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574560" y="1224000"/>
            <a:ext cx="37735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69480" y="57135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3480" y="27590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39760" y="27446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ECD-4D36-41B1-B03B-D75304B7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3:00:55Z</dcterms:created>
  <dc:creator>Dr. Jon Moskaitis</dc:creator>
  <dc:description/>
  <dc:language>en-US</dc:language>
  <cp:lastModifiedBy>gopal</cp:lastModifiedBy>
  <dcterms:modified xsi:type="dcterms:W3CDTF">2009-11-18T22:54:27Z</dcterms:modified>
  <cp:revision>9</cp:revision>
  <dc:subject/>
  <dc:title>Slide 1</dc:title>
</cp:coreProperties>
</file>